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33D4-4893-4CC1-90E8-F3C3A5AD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BF4A-2F89-4277-A393-3365C5A6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2702-3AE2-4098-9857-3705E747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E7D0-45BA-4449-AE01-F65FF97C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BA16-F9E7-4AA6-8C2A-00C7126E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EE7-1F1C-45FE-B4EE-12BD00C7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6CE8-4144-4921-87E5-F52BFDCC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9D56-AE1B-4B4A-B4E5-A0540D66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FEE0-8F63-4ED0-8090-AE293144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D47E-50C4-4210-95F2-CDA162D0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E073-6562-4E68-9B88-AA18084F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4E16-C39F-4137-AD30-4A481CE5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84C2-FB22-47E8-ACE9-F9755B8B8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9:26:15Z</dcterms:created>
  <dc:creator>abeason</dc:creator>
  <dc:description/>
  <dc:language>en-US</dc:language>
  <cp:lastModifiedBy>abeason</cp:lastModifiedBy>
  <dcterms:modified xsi:type="dcterms:W3CDTF">2009-01-30T19:26:21Z</dcterms:modified>
  <cp:revision>1</cp:revision>
  <dc:subject/>
  <dc:title>Slide 1</dc:title>
</cp:coreProperties>
</file>